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DA8-D635-4F30-A37C-55D98962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B91-2DE4-4FC5-884B-704270B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305DE-D3D3-4299-ABE0-70E96DE3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06C09-032B-457A-ADC4-0D384F9A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40631-1A0C-4E25-9C6C-C18E9EB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7FAF0-8C77-44EF-9051-C7EF653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E148E-4C47-46E0-8D4F-E5F64FF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5CFC4-B512-4436-B6E1-C6E490B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DFBFE-7556-4DC9-9F72-D7BB7E2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5E53D-36C1-4279-8879-BD79FAD6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A06E-AB21-4AA3-BD7E-2F5E95B3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7C102-8CC1-49C9-8AD8-FDDCAAC0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636-C67B-4187-ADE8-BC8A20AA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74D7C-F246-466B-BD49-0E7D9A4F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9D098-3B94-4D59-B6FC-4F017867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C613B-311B-481E-A425-768FFD0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5C1D4-77AD-487D-9CF3-2CE7021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AECD3-1100-47B9-A39A-EA7A6E7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ADC70-7C8C-476E-958B-C16E3A1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F3D72-5C1E-487F-A36B-23E0F12D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EAAA-98C8-4DE3-8BD2-498EAE6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69D24-19CF-4E44-9327-B4234E7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1129B-CDA8-4F20-B61E-1764C02E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4E6-BC8E-4858-8231-2E268F02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82A02-E9B1-4875-B119-9D97A85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B31D8-B782-46DC-B916-3A56579C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21890-FA6D-4A76-866E-7830A412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8B4D8-8626-4937-B115-FD89965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C6556-62BB-4176-94C9-DEA8DD3A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A438-3548-4DD0-B176-C753E888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A849-1CE2-41E8-AE38-F044909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4E7E-23CD-409D-A535-39D3288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EEC4-85DC-419A-83BC-0070851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7D854-4858-4F71-BFC8-1E496E0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4A11-B079-4B5D-B9DC-70AC8C0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2FD82-9573-4588-A06B-824D650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4304-A07E-4C02-B528-607B0C23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91E4-B7B8-4EC4-83B6-1688DEAB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83B8D-C05C-4A23-8E1B-1B9F5C0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94E35-BD8F-4369-A19E-6DCC3D0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A61F1-B8EB-4A86-A623-57ED294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068B1-6A5B-4FE9-AADA-77A247C8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16A03-EADE-4657-A689-E1FF32A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86C8D-EF34-4E5D-A44D-F6B989A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20811-481B-44CE-800E-5F38DFE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191D-8DD8-43A8-A5A5-927B4E3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58AC8-BEF6-4A8C-8CE2-386AE13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07C21-1F91-4F1F-9D45-D370D5A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271F7-7A36-451A-AAAB-E3EC288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4FCEF-C3B6-4758-BBD5-2AC7EF70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701DC-FA0F-48E5-847D-30AFA287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13496-AA80-49E3-9DA3-590B075E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33054-0554-4BB3-895D-CA9CE59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365AF-D949-4D96-A204-2FDF665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A7470-6427-4266-8EDC-BBF321D7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1EB99-1F57-44C6-9A43-33F9BA33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06F4-A257-4881-A487-0BA2AD0B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900A9-541F-4A03-BAC0-11325B5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EC826-2D69-4D87-A037-A0B2A39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BAF79-9E92-4566-8E03-7055DC0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0D16C-6DF6-4E25-A447-0C98A75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F7652-F2A5-4541-9891-C68F821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2A118-EEA8-4751-A761-46637E11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58EDA-45E8-4F40-8CEB-77F669DA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248BF-6106-4EB8-AE41-3955AA81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42E0F-F07F-4065-AB93-956DC06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61CDB-C9AB-4B8D-BF66-9A51AB1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F858-2FFB-4425-BB8A-100B5B1B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914F2-480A-4E00-A499-3BE2BCB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8EBDB-1217-4716-A6A8-4825F3D8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D374C-5C4D-4EF2-BAB0-302AAC8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B016F-CF92-44F4-93AF-0742C14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5527B-9F83-4F71-B05D-A3460E9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62BBB-30B0-48E7-A27F-2F39376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E7E94-C304-4BE3-8BFB-A0B5393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74C50-AE76-497D-A48F-3ECEE00E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AF0E6-2F6A-4EB6-A215-5A19B626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6DCD5-67BC-4A0B-A6BE-52AB7779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D04D-A3D9-49C5-A6BE-2FCFB72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A6462-E6CD-4F2C-BEFD-B960FB6A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5F3BC-46B7-46DA-94AE-6C84B739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FCDC4-B04C-4A7C-800D-86D3370E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04C26-287F-4B00-B9A2-A2227E46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00F53-B9E9-4334-B978-5608ADC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02EED-91A5-4A56-940E-7DA0188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6FD2D-B17F-4ED7-A1BB-612E1E0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60B76-8FAC-4A8A-A3E9-D270948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AA07C-67DD-4844-893F-26D445DA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B6572-123D-40D8-B143-56928617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6CBA-AEE5-4324-9DA3-34DA9F9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ED44A-6B01-47DF-8367-E0A416DE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D979C-9289-45AF-AE88-3DEE4EC3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E26B2-0B76-42BE-AF5C-044EB62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43EDE-1C18-4610-AC63-B54C186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A94DA-3E53-4F04-95FE-784F65C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9D6FD-6D85-4B1D-9C7E-B92B3EE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63831-3F58-4C15-BB7F-40509F9D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44A80-4065-40C6-A4C8-A279034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41F34-A720-4B56-A803-3F0C775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4F1C5-766B-461C-B8EC-6232C21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8BD-EABD-4FAF-9D63-B2809AD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433DF-1634-42A2-8AC9-B273AFCB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17EA5-E487-4103-B6EC-C2723C54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EB9C1-0875-4D39-BD23-EAE864EF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94B03-AFD2-4234-9D3B-884E3B76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D31A8-6906-4C36-AD89-64FE148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67BA0-BC23-4F74-A31C-E39EEF2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25A21-EF56-4D1A-995F-182D807C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626AE-9298-428C-B39C-505F7A8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D7C07-F874-45EB-ACC3-47F4C0A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BE3EA-31C7-4391-9155-47386FE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2EB-FDF3-4CAD-AA4B-D831767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D054-5A46-44D7-8BB7-4CFCC2B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B3BCB-17B8-425F-B535-1265B56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53D79-FAE5-40F2-BA32-1DEF272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817F0-0052-4BF5-9E71-6BF2C386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C4988-24CA-4DF1-853E-D10D0014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44F47-281C-4833-8570-8BDEA214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6798A-FD35-4560-B4E9-089FD993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57C6B-D342-4717-B525-7B633F6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89061-8D07-4771-93B2-172C5C4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4BE87-A7BC-4475-9430-52DBD02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F910F-7A2C-49D4-8A10-546BE3FE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ED05-A87D-4D16-B859-925785A3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117C6-C96B-4006-B3DC-9FBC90C2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17488-E773-4F62-983B-7B9E7E0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088A2-C511-4D0C-AD4B-F388D81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DC6CC-0F57-41F1-AE5E-ED2592A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8B6C1-27DF-4218-8B04-28B7559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90B90-6CA8-43D2-A638-15623BE0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E312A-0A29-4AF1-AA5C-E26CD629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854ED-A34A-4CFA-8A7E-59A49928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64DD5-6F5B-4AC6-AEDE-5CDD0EE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118FC-E9A3-4D6D-9CFB-AA4E166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1396-C1FB-49BB-BA7A-7EFC13B8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0448B-2C0A-46F8-8593-B283D36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79C1A-5F25-4A78-98CB-1F9C82C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44B1B-15EB-442E-967D-E1E6B59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98508-CA68-4B76-8B4A-F7FE5DE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EAB68-7531-4216-B667-8A0D149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5399C-015A-4637-974C-F7D49C5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E8AE0-B1E0-4A78-86FE-B4CD15BE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7E336-B832-4E6B-8613-EF57B048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61D34-97A2-40A2-B22D-30979C9C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8D1F3-C6A9-4C31-BA47-25FACD82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E02C-F315-4412-8176-BBEE5114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6A36B-2484-4039-B0AC-D511C5F0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3DFD4-5307-4E63-B8B5-B2E4CA7E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41109-88D0-458D-B21E-F1A5889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4E863-2B50-4A79-B980-0D3D54CC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A32C4-87BC-4701-8FC3-F388670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6234F-1C6B-4704-9272-08F255D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2D6A8-99DE-452C-9A39-8A523F9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E7DB0-449A-44A8-802D-A98CF91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CEC2E-CE03-4867-9C5E-C712A5E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AC0CF-646F-44D9-AE89-77825C1A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706-3230-4B33-A3D1-9B701CA0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A008A-659F-4706-AD65-C5DA2E9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48258-FD63-4458-AD15-96CE65FA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F7567-B9BE-49B2-A225-2D815087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38C92-0875-4071-B02C-214E5D03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9C39E-41F4-4DC6-B177-79C5A6B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E704E-F99C-4E4C-973E-C6A5DE3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071B7-E267-4A76-81AB-2E119701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C4733-86AD-4B0B-AB8C-392797D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BB267-8184-4307-A70E-91835728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6BFC7-585A-4EB4-A038-C95C1F84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7FFD-9FC9-4434-9777-0CADB2DF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072B9-5482-4F31-B5E8-B8AA8BC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BF1A9-43D1-4B32-83C3-91B9FC11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39F7A-264D-40E9-AE71-3D85A4F1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81FFB-237F-45D7-BE9B-3DCC8AF8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D1D1E4-BF97-4548-BE6C-B61950E1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106962-4C1F-4732-8025-F52F1751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441C4F-AD28-40FE-A1E5-571E9B38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6FED3-AC7B-4EEC-A538-B9E96F0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A0778-249F-4B21-AB5F-F7211BA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C7115-8FF5-4FE8-8858-0838A83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57E6-40A0-4F72-97EF-4DF36AA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1D66AF-144A-4EE3-88B2-0B160D8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794283-6175-437D-AA72-7AF7482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46D03B-F233-4759-A3D4-4627BC1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E5034-0D2B-4FE4-942E-9FBB9A7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61CDF-D533-4D84-BCE9-1A830B1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29F2F-7851-4269-8F46-FE83CA40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9E3ABA-A965-441E-A729-EFCEA10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E50FC-75FB-4422-8F42-A574325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269C3-9DC6-4A82-8D35-7283D6C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50F05-E00F-4B6F-81AD-CB96757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AF15-6E0B-4B86-808B-9122992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079FAC-9721-498B-99AE-2A39B3C9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D071F-AD53-4A25-B448-302B868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0C347F-885F-420D-854B-1179E2A2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017C6-9C7D-4C8A-8A47-744DF92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DE966-166C-4A57-B73A-9BE10CE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2AF21-B1E2-4744-A249-0E1FCDD5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0D7AEA-5057-4703-98CC-5938CCB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5290-33BC-4565-8DF8-4841FEF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A99F-5529-4522-A451-1C9983AC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6C3-4274-4A77-8EF4-B4E7371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F130-35B1-4269-8B6A-39486AF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FAC6-509D-47EA-9AA9-796FADD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15B4-1D0A-47B6-A8FC-F8020C0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5740-6FEC-4062-B44E-2996500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D0AA-FF74-4832-991D-2EF41BAE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166D-00F9-4025-8240-0865E9B8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D1F5-2E9D-40FA-A915-C55E02F1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0A19-BA71-440A-845A-289497D3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739C-7A42-46EF-8EF6-AE6567A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9D75-8912-4826-BE11-94675A2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0A3-6C52-4D6E-8070-5A6AE26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B315-11DE-4AB4-B663-20A102C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531D-5165-44A5-A829-47A093E7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9E7F-32EE-47E9-ACC1-C14B80F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EDD2-2A15-4FED-A7EB-441A3CD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AEF5-2570-45B5-B278-91C00CC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E080-BF32-4180-BE73-E0029534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4598-B63B-4CEB-9497-096CDE32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1849-1CBD-4BAD-91DF-1EC6F61F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1E47-3055-491B-B216-5161420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A1DC-EE0C-4820-B6D3-6035FB52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1D6-36A0-4458-A29F-BE24045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B255-6625-4FFF-AC90-20A223E6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9556-31B3-4FE9-AA36-CB874B7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2FE5-808F-48CE-8B1D-565341E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EFF1-6E5A-45D5-9D4B-3CFF4A93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8621-0D2C-45FC-B1D3-AAE06D7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FBBE-98E7-4BEA-BDB1-92DD3B5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31C0-CEBD-4EA6-8A5E-5C4F466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5335-3B92-4C09-9B6F-594F7920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775A-CB9A-4ABA-856D-F35C4D04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24204-FC29-451F-8692-E87FADB9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D03-5E20-45CD-86EF-7923354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971B-48E1-41D4-B03B-6D01F851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8C1CA-B438-4B8A-B800-EA90D113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B5BC1-AAFC-4F73-8CD7-E255AC2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F267-4082-48D9-B4DE-91AA4F8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E595-83E9-4071-A4EF-8743DA5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BA62-63DD-4A39-932D-985935D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248F-1A6C-4989-B342-53475E9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869F1-09A9-40C2-9642-444D697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DCA5-B888-4937-8649-F88ABF2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3C59A-7BEC-4628-BD13-F75A3A9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23C-621E-409B-BFB6-E6E57B7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A2BD-2B7D-4F9C-9FC4-1BEB3E7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28D8-E16B-4F8F-BDA6-ED32E686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17D59-BE07-4FC0-ACCE-DC0DD1E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78CC-96AF-4772-BDC8-C943446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85EF-94E7-47CB-8822-DDDF952A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5381-B300-4C4B-B738-1F9C929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B802-769F-439D-B215-5EBDD4A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CD83-BB88-48EC-8E5A-E570DFD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8BDC-C96D-48C6-B0C3-3F21A002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2196-A039-4AFB-A2C6-0066836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19A-20F4-455D-AC5C-441BCD5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E36F-B648-4F88-8CDF-556996A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3FF9-1091-4993-8B3C-9E073D0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66E2-566C-4F26-8250-59637745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C082-D89C-431B-8A98-1EB64B0C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0A346-83BE-4356-AC72-CC2F811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C97F-24B4-4302-969B-619B5AC7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A370-44E4-4CCB-81E3-90E5F87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04A1D-AAA5-42F0-88AD-506508C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45239-542C-4052-965C-655E41A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13AF-DD07-4EF2-A6FF-D6E2AC7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C49-8817-4C67-B0BD-84F3E27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60D7-0CC7-4923-9ED3-C99CE73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2D0D-F9F8-4447-84C4-1D706F5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55B0-488E-4600-8BB0-5C25BBC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1D939-2D6A-4BB5-8A62-4E204BC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173B-84F1-40B8-92DB-E11BC291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4CC64-9B64-40A1-ABE0-5DED9CE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F3DC-B708-4A11-B516-B300ABDC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9D29-896F-441A-9989-39955863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60534-6F79-47FA-ADE9-973784CF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00269-4B02-4A89-87E9-9F11CC1F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BEA5-29D3-41EF-98E6-D76F8E260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B17-DEA1-4F50-842D-D658179CE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A51-273D-4184-A43B-49BEC8A6A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0C2-DED8-46CB-AA0C-935B64424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9860-4074-48A7-AA42-6C799623C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03B0-8208-432B-9E1F-57DE626FD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68B1-1F47-4115-9981-E5BB31E60A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DB3-885B-4D0A-A15A-B5ADCDE5C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7C84-A06E-4DD8-8F53-3D4BB091BA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0B3-C594-4421-9ED5-465660A4C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890-A822-409B-A7F3-A54D6CD92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455-5122-4DB3-A2C3-6D3697C41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DAD-0715-40A8-9CEF-FDA32F0EB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092D-DD2F-4A4E-9798-2E0305C18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E10-139A-43B7-AD83-246DD7B10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019-081E-4183-8505-B917C9B3C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632-71F7-43FC-A4E6-24FDD7FA2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95E-9406-4517-A0AE-19B7254F3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BBAA-071D-4569-8828-325089889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4A22-5B93-4E7A-B8A6-C831FC8F17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815-0FFD-4F9A-8D5F-1EFF24085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02D-F63F-4060-B678-CE4716AD2B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3BE0-4781-4FFB-956D-0B55673D8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5AE-3741-4FDE-AB17-17D47609E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7925-0BFF-4ADE-A5EB-A78B7CEB2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E9BB-6DC6-4448-B2B2-B81065EAE0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56C-4438-4FB0-B2DE-FAA0D1041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697-6E04-4DF6-A2A6-E1A805AD6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541-51A9-4376-A1D6-74E19F9F8F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F66-C754-4BB5-995A-37308AE19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5A3-6161-461B-9664-CD3F7C89B4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925-0EC2-413B-BDAD-2758E86A5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11C2-243A-4006-AA9C-62F26BD476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C3B4-094A-4DF3-8CF8-D09B471B01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03D-4410-451E-B41F-7778A92F5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DF2-40BB-4F28-B0DA-AB82F45685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252A-4F2B-468E-9C87-C94C6B17E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AEA-5EA5-4413-B9FF-796F7FAF3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C93-9B45-498D-9452-A303CFE3C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4A5-27ED-460A-9A89-2A607B7F7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A15D-8E7A-4172-AC2A-3A2CE3AB7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988D-BCD3-48D5-B86A-BFB0F08A0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281400" y="1703520"/>
            <a:ext cx="2581200" cy="75240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99880" y="3867120"/>
            <a:ext cx="85456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209520" y="1281240"/>
            <a:ext cx="8724960" cy="42955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414828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971640" y="459576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25360" y="1063800"/>
            <a:ext cx="8693280" cy="17618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266840" y="3511440"/>
            <a:ext cx="6943680" cy="23716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132000" y="146988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700360" y="1989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883120" y="1469880"/>
            <a:ext cx="5605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580000" y="1944720"/>
            <a:ext cx="56052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172360" y="146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8101080" y="19591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3492360" y="41781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3564000" y="48117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80400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6502320" y="4869000"/>
            <a:ext cx="71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33280" y="990720"/>
            <a:ext cx="8677440" cy="4876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5364000" y="259380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435640" y="399096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851280" y="5315040"/>
            <a:ext cx="403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71400" y="2424240"/>
            <a:ext cx="7801200" cy="20095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2987640" y="3156120"/>
            <a:ext cx="43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916360" y="3817800"/>
            <a:ext cx="432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314280" y="1662120"/>
            <a:ext cx="8515440" cy="35337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4284720" y="25797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867280" y="3270240"/>
            <a:ext cx="18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6516720" y="3933720"/>
            <a:ext cx="18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796000" y="4638600"/>
            <a:ext cx="18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14200" y="885960"/>
            <a:ext cx="8715600" cy="55623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2843280" y="5013360"/>
            <a:ext cx="6121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438120" y="1528920"/>
            <a:ext cx="8267760" cy="3800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6191280" cy="14414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6191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6760" y="1333440"/>
            <a:ext cx="8610480" cy="4191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518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547640" y="3500280"/>
            <a:ext cx="518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547640" y="4941720"/>
            <a:ext cx="518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209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403280" y="4508640"/>
            <a:ext cx="35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403280" y="5013360"/>
            <a:ext cx="35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403280" y="5516640"/>
            <a:ext cx="5113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52280" y="61920"/>
            <a:ext cx="8839440" cy="6734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403280" y="1859040"/>
            <a:ext cx="273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332000" y="380376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1332000" y="433692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1332000" y="5776920"/>
            <a:ext cx="7561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7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